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8C92-A746-403A-9A27-3B697BA95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99E7-6472-4457-BD82-1646C516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DA9C-2FC7-4A6B-986E-6C883B845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B387-89CD-49E0-81E0-D825CFDFD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101A-13C2-4805-ADEB-42F2D4FF6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3DB8-9DAF-4A3F-A4B7-4AE77845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C1BF-3C01-4630-80F2-3DF17FD4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E973-ACE9-49B8-B033-48A055E3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D9B3-72A0-41C5-9FB8-4A11AEED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530F-A0B9-4BC6-B828-4190F370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F202-7987-4E3D-A204-45A47BC6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4DEC-B014-4603-B9AD-4A14F77D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17F0-3D22-4E87-9A77-49D25621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8687-08AE-41A0-AFF9-A01FCF3F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2328-766D-4047-9F02-84EBC853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43BE-58A1-43FC-99AE-D50CDD30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8C90-4C0C-4C3A-B1B3-E8976C701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E8101C-F7C9-4676-86DC-7489A86E9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33147D-FD3D-4243-AAA5-B0FB7D23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5B0143-3203-4F44-8AAA-EC433686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F4E4F0-428E-496A-B8E4-21AF93A1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297F44-8C86-407E-A87B-A7A9F439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4F3F-5B06-4FD4-9B2D-03FEFB6C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A58918-E62D-4385-9708-91DD4079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483EDD-400D-40B2-939D-758DA93F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08EA8A-2BF7-4D02-AEE9-D4CDD9DD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C97268-7D83-4A4E-B7E4-F895E621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F06858-940F-4164-8769-13F3D390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5183FA-3BFB-4262-9AFE-25FB70496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0EF56C-7277-45A3-8409-B25B5037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890F76-7C68-42F0-AC1A-A3BD245C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68FC15-2985-462B-AA16-801556CB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FAC028-6497-4E0A-B20C-A8978A78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DCE1-DB0E-4C4F-93B2-14B802EB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F0B2DC-1B2B-416B-BCC1-FBAAEF14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A1CF97-E3B7-40CF-8D32-87E00552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251546-D25D-45CF-908A-1B0D2A1F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85157E-8514-435B-B6BC-12A756D9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710222-685A-4A58-817B-BE5FE6D7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4C0777-CA68-4E93-BE41-4A4FC49E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FB022E-A7AA-42A4-B73E-A47BB764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9372A0-9F15-4229-9D48-F69361CC4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FF310F-F6F9-4D5F-8B41-1CC4BFCF9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A4C4AF-6078-4009-8CDD-45A2871F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DF04-A144-4670-B151-0F1C0D96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933A3B-D317-4FF8-AEC6-C992D7F5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60E9C7-CD9B-42B2-925D-3DD7F1B3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C2F26F-6619-4811-B22E-3E8B14F7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06986D-DA98-4D0B-8E53-D5DE83C8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118F85-4DEF-4BB5-9723-2BFF5D41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657C8D-E22E-4CCF-AEE1-1D980EC9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4DEE2B-FEC8-43A4-94AA-CEE61614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07021C-9C4D-42AC-8DC9-F37EEA58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981796-9E21-4F01-B204-584454C1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993745-889C-4167-84F9-8C7B6FE2F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3D56-21A6-4922-B2E5-ECFA7E86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6ECD7C-5118-40A7-A068-BAB6F0A6A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5080C-6B89-4352-96D2-CD70D0B3C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673D5-7841-40FC-A680-2D36BADD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80FAD-55D5-475C-A084-AAC0D65E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6C238-6833-43D2-9DF5-2978B735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281A0-E698-431B-B565-FC3794B5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96B89-DF53-4064-A223-5DBCF1A0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9A4EF-B7B5-4700-9282-E127BC6B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BE404-5E43-424B-AD6E-58ABD36D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4E851-F1B2-4D9A-8E3D-EBD048F3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FF22-7D65-4B5A-AE95-4DACCCB9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091F2-F9A5-4B3B-AD73-35E3C58C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39C16-E52E-484B-85F0-D9642DA2B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CA848-D63A-4099-8DD4-1C6ED607F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693C02-504E-4C3F-919C-96CCC58BD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021297-75BD-412B-80D4-91AFFAFB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8B0E81-912D-4965-A639-64E72271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244AD2-78EA-4F47-966E-7BAD5EF6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596BEA-CA65-44CF-99CC-9558BEA5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226871-AD18-4F8B-B881-26A60AA7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8CDBD0-FF57-4163-BC65-69AB386A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93C6-735A-4E56-9F5F-45CCCAF2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0D00CD-857C-4202-A192-AA7E03A9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3BBFEB-9EA8-4EAA-9513-D5B05B37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0BC657-3C72-42E9-8F17-DDE4C8F2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0DD7D3-DB5D-4B0C-9EE6-593F45B09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B0DF39-D6C1-4B77-AB6B-4DB30F342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DABAC-988D-4351-9CBE-0A615050B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2415C-FA8B-4F8B-9166-A9CBACDC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5EFA2-C751-43BC-9A7D-1B545D28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DBCED-0433-4AAE-811F-B850F302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4A95E-5A80-4D0F-B84F-6BA0E43C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7FE5-3B5C-4A6F-8C77-7653B0F9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36539-6983-492E-9A7E-28A37DF1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7E7EA-1FDF-4164-8ED6-B571BEAC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CB6D7-CDA0-4414-B07B-493CEECA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9AA40-ABFF-4A8C-A429-CCB6F389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E704F-B64D-4ACA-AE99-F3C3B853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73375-4AC4-4B64-A286-540B528C5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9A5D8-5AB4-4BAF-921D-959AFF7DD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0C5C-2EAF-40BC-8544-017CE859AB7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B6C1-B0BB-47A0-A231-A931F422526D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D375-FDAA-4998-B269-064768AF8C3D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EC0F-5CFF-424B-91AA-DC25EDF2179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AF7A-479F-4E44-8AC3-2BC80560A02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37CD-967C-4C3E-8B0D-7FAED5A69F5E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Прямоугольник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Прямоугольник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Прямоугольник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05B3-3CA2-49D8-9C30-962F12921461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оугольник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оугольник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754D-3E2C-4DAC-BD20-3F8F4D7EF9A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libri"/>
              </a:rPr>
              <a:t>КОМПЕТЕНЦИИ УЧИТЕЛЯ И ЕГО КОМПЕТЕНТНОСТЬ</a:t>
            </a:r>
            <a:endParaRPr b="0" lang="en-US" sz="72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Calibri"/>
              </a:rPr>
              <a:t>Августовские ММО  учителей начальных классов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Calibri"/>
              </a:rPr>
              <a:t>МО Кувандыкский район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Calibri"/>
              </a:rPr>
              <a:t>2009-2010 учебный год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28760" y="35676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ff0000"/>
                </a:solidFill>
                <a:uFillTx/>
                <a:latin typeface="Calibri"/>
              </a:rPr>
              <a:t>Профессиональные компетенции учител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азовая компетентность учителя заключается в умении организовать такую образовательную,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развивающую среду,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которой становится возможным достижение образовательных результатов ребенка, сформулированных как ключевые компетенции. Уметь организовать обучение таким образом, чтобы оно стимулировало интерес, желание вместе думать и дискутировать, ставить оригинальные вопросы, проявлять независимое мышление, формулировать идеи, высказывать разнообразные точки зрения. Чтобы оно мотивировало учащихся на более высокие достижения и интеллектуальный рост. Можно выделить те характеристики ситуаций, которые должен уметь организовать любой учитель с целью создания в классе «развивающей среды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7200" y="28548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Характеристики образовательных ситуаций, которые должен уметь организовать любой учитель </a:t>
            </a: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с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целью создания в классе «развивающей среды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тивация учащихся на реализацию той или иной работы,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остоятельная, мотивированная учебная работа учащегося, деятельность (самостоятельное осуществление разных видов работы, в процессе которой происходит формирование умений, понятий, представлений поиск нужной информации, проектирование и реализация своей деятельности, осознанность цели работы и ответственность за результат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уществление учащимся самостоятельного выбора (темы, целей, уровня сложности задания, форм и способов работы и т.д.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ичие групповой проектной работы учащихся (определение тем и проблем, распределение обязанностей, планирование, дискуссия, оценка и рефлексивное обсуждение результатов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астие детей в различных формах дискусс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ние понятий и организация на их основе своих действ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истема оценивания, которая позволяет и помогает учащемуся планировать свои будущие учебные результаты, самому оценивать уровень их достижения и совершенствовать и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57120" y="0"/>
            <a:ext cx="84297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Возможные действия учителя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направленные на создание развивающей сред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ощрять за попытки что-то сделать самостоятельн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емонстрировать заинтересованность в успехе учащихся, связанном с достижением поставленных цел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буждать к постановке трудных, но реалистичных цел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буждать к выражению своей точки зрения, отличной от точки зре­ния окружающи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буждать к опробованию других способов мышления и поведе­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ключать учащихся в разные виды деятельности, развивающие у них различные способ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здавать разные формы мотивации, позволяющие включать в мо­тивированную деятельность разных учащихся и поддерживать их актив­ност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зволять строить картину мира на основе своего понимания и куль­турных образц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здавать условия для проявления инициативы на основе собствен­ных представлен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чить не бояться высказывать свое понимание проблемы. Особенно в тех случаях, когда оно расходится с пониманием большинств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чить задавать вопросы и высказывать предлож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чить выслушивать и стараться понять мнение других, но соблюдать право не соглашаться с ни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6840" y="213840"/>
            <a:ext cx="8472600" cy="63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Учить понимать других людей, имеющих иные ценности, интересы и способности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чить определять свою позицию относительно обсуждаемой проблемы и свою роль в групповой работ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оводить до полного понимания учащимися критериев оценки результатов их работ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чить осуществлять самооценку своей деятельности и ее результатов по известным критерия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чить работать в группе, понимая, в чем состоит конечный результат, при выполнении своей части работ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казывать, что лежит в основе эффективной работы групп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зволять учащимся брать на себя ответственность за конечный результа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зволять учащимся находить место в коллективной деятельности сообразно своим интересам и способностя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елиться с учениками своими мыслями, чувствами, ожиданиями относительно обсуждаемой проблемы, темы или конкретной ситуации их деятель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казывать ученикам, как можно самостоятельно учиться и придумывать что-то ново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1оддерживать учащихся, когда они делают ошибки, и помогать справляться с ни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казывать относительность любого знания и его связь с ценностями, целями и способами мышления тех, кто их породи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емонстрировать учащимся, что осознание того, что я чего-то «не знаю», «не умею» или «не понимаю», не только не стыдно, по является первым шагом к «знаю», «умею» и «понимаю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0" y="357120"/>
            <a:ext cx="9144000" cy="65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Основные компетенции современного учите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меть учиться вместе с учениками, самостоятельно закрывая свои «образовательные дыры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меть планировать и организовывать самостоятельную деятельность учащихся (помогать учащемуся определять цели и образовательные результаты на языке умений/компетенций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меть мотивировать учащихся, включая их в разнообразные виды деятельности, позволяющие наработать им требуемые компетен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меть «сценировать» учебный процесс, используя разнообразные формы организации деятельности и включая разных учащихся в разные виды работы и деятельности, с учетом их склонностей, индивидуальных особенностей и интерес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меть занимать позицию эксперта в отношении демонстрируемых учащимся компетенций в разных видах деятельности и оценивать их при помощи соответствующих критерие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меть подмечать склонности учащегося и в соответствии с ними определять наиболее подходящий для него учебный материал или деятель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500040" y="71424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ладеть проектным мышлением и уметь организовать групповую проектную деятельность учащихся и руководить е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ладеть исследовательским мышлением, умея организовать исследо­вательскую работу учащихся и руководить е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ть систему оценивания, позволяющую учащимся адекватно оценивать свои достижения и совершенствовать и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меть осуществлять рефлексию своей деятельности и своего поведе­ния и уметь организовать ее у учащихся в процессе учебных занят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меть организовать понятийную работу учащих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меть вести занятия в режиме диалога и дискуссии, создавая атмосферу, в которой учащиеся хотели бы высказывать свои сомнения, мнения и точки зрения на обсуждаемый предмет, дискутируя не только между собой, но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ителем, принимая то, что собственная точка зрения может быть также подвергнута сомнению и крити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ладеть компьютерными технологиями и использовать их в учебном процесс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457200" y="49968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ff0000"/>
                </a:solidFill>
                <a:uFillTx/>
                <a:latin typeface="Calibri"/>
              </a:rPr>
              <a:t>Педагогические методы, способы и технолог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спользуются все возможные методы, способы и технологии, позволяющие достигать поставленных целей. Среди них можно отметить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Технологию «критического мышления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оектно-исследовательский метод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рганизацию разнообразных форм диалога и дискусси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Методы формирования поняти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642960" y="500040"/>
            <a:ext cx="8043840" cy="55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63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Актуальность внедрения компетентностного подхода и российскую школу становится все более очевидной. На смену ЗУНам приходят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Calibri"/>
              </a:rPr>
              <a:t>надпредметные образовательные результаты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. Однако для того, чтобы они действительно стали предметом инновации для массовой школы, необходимо, чтобы этой идеей прониклись в первую очередь учителя. Ибо учитель не может развивать те компетенции, которыми не владеет с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8920" indent="633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57200" y="356760"/>
            <a:ext cx="8229600" cy="57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ущественные перемены в образовании невозможны без кардинальных изменений профессионального </a:t>
            </a:r>
            <a:r>
              <a:rPr b="0" lang="ru-RU" sz="2700" spc="-1" strike="noStrike">
                <a:solidFill>
                  <a:srgbClr val="ff0000"/>
                </a:solidFill>
                <a:latin typeface="Calibri"/>
              </a:rPr>
              <a:t>сознания учителя. Это предполагает существенные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еобразования в системе воспроизводства педагогических кадров и изменения отношения со стороны общества к учительскому сословию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ежде должна быть разработана государственная политика в отношении выращивания новой генерации учителей с иным сознанием, иными ценностями и профессиональными компетенциями, направленная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на создание сообщества учителей в качестве новой общественной элит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57200" y="428760"/>
            <a:ext cx="8229600" cy="56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3a5750"/>
                </a:solidFill>
                <a:latin typeface="Calibri"/>
              </a:rPr>
              <a:t>Чему противостоит компетентностный подход в образовании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a5750"/>
                </a:solidFill>
                <a:latin typeface="Calibri"/>
              </a:rPr>
              <a:t>•  </a:t>
            </a:r>
            <a:r>
              <a:rPr b="1" lang="ru-RU" sz="2700" spc="-1" strike="noStrike">
                <a:solidFill>
                  <a:srgbClr val="3a5750"/>
                </a:solidFill>
                <a:latin typeface="Calibri"/>
              </a:rPr>
              <a:t>Традиционному предметному репродуктивному «обучению», в основу которого заложена идея трансляции и усвоения знаний (информации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a5750"/>
                </a:solidFill>
                <a:latin typeface="Calibri"/>
              </a:rPr>
              <a:t>•  </a:t>
            </a:r>
            <a:r>
              <a:rPr b="1" lang="ru-RU" sz="2700" spc="-1" strike="noStrike">
                <a:solidFill>
                  <a:srgbClr val="3a5750"/>
                </a:solidFill>
                <a:latin typeface="Calibri"/>
              </a:rPr>
              <a:t>Селективной, двухуровневой отметочной системе оценива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a5750"/>
                </a:solidFill>
                <a:latin typeface="Calibri"/>
              </a:rPr>
              <a:t>•  </a:t>
            </a:r>
            <a:r>
              <a:rPr b="1" lang="ru-RU" sz="2700" spc="-1" strike="noStrike">
                <a:solidFill>
                  <a:srgbClr val="3a5750"/>
                </a:solidFill>
                <a:latin typeface="Calibri"/>
              </a:rPr>
              <a:t>Принудительным формам организации учебных занятий, сходным с конвейерным способом организации труда </a:t>
            </a:r>
            <a:r>
              <a:rPr b="1" lang="en-US" sz="2700" spc="-1" strike="noStrike">
                <a:solidFill>
                  <a:srgbClr val="3a5750"/>
                </a:solidFill>
                <a:latin typeface="Tw Cen MT"/>
              </a:rPr>
              <a:t>XIX </a:t>
            </a:r>
            <a:r>
              <a:rPr b="1" lang="ru-RU" sz="2700" spc="-1" strike="noStrike">
                <a:solidFill>
                  <a:srgbClr val="3a5750"/>
                </a:solidFill>
                <a:latin typeface="Calibri"/>
              </a:rPr>
              <a:t>век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a5750"/>
                </a:solidFill>
                <a:latin typeface="Calibri"/>
              </a:rPr>
              <a:t>•  </a:t>
            </a:r>
            <a:r>
              <a:rPr b="1" lang="ru-RU" sz="2700" spc="-1" strike="noStrike">
                <a:solidFill>
                  <a:srgbClr val="3a5750"/>
                </a:solidFill>
                <a:latin typeface="Calibri"/>
              </a:rPr>
              <a:t>Вертикальной, иерархически организованной системе административного руководст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57200" y="356760"/>
            <a:ext cx="8229600" cy="57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alibri"/>
              </a:rPr>
              <a:t>компетентностный подход в образовании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сновывается на следующих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принципах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разование для жизни, для успешной социализации в обществе и личностного развит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ценивание для обеспечения возможности учащемуся самому планировать свои образовательные результаты и совершенствовать их в процессе постоянной самооценк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нообразные формы организации самостоятельной, осмысленной деятельности учащихся на основе собственной мотивации и ответствен­ности за результат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•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атричная система управления, делегирование полномочий, привле­чение родителей, учащихся и людей «извне» к управлению ОУ и оценке его деятельност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213840" y="142920"/>
            <a:ext cx="8929800" cy="65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жно выделить следующие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группы надпредметных образовательных </a:t>
            </a:r>
            <a:r>
              <a:rPr b="1" lang="ru-RU" sz="1700" spc="-1" strike="noStrike">
                <a:solidFill>
                  <a:srgbClr val="ff0000"/>
                </a:solidFill>
                <a:latin typeface="Calibri"/>
              </a:rPr>
              <a:t>результатов, то есть ключевых компетенций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1. Коммуникативные (понимание текстов, работа с информацией, выступление, написание текстов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2. Информационные технологии (компютерные - интернет, электронная почта, программирование и т.д.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3. Исследовательские (естественно-научные и гуманитарные методы исследования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4. Проектные (проектное мышление - разработка проектов и участие в их реализации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5. Работа с числами (вычисления, использование математических методов для решения практических задач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6. Организационные (координация деятельности людей для достижения целей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7. Работа в группе (взаимодействие с другими в процессе достижения общей цели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8. Умение учиться  (планирование,  рефлексия,  самооценка,  само­стоятельная работа по теме, поиск информации из разных источников и т.д.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9. Личностная (рефлексия сильных и слабых сторон своей личности, характера, приспособление к своим личностным особенностям, принятие себя, своего «Я»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10. Решение проблем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2876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Компетентностную модель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овременного учителя можно представить в виде состава входящих в нее элементо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Ценности, принципы и цел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офессиональные качеств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лючевые компетенци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дагогические методы, способы и технологи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офессиональные позици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500040" y="42840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ff0000"/>
                </a:solidFill>
                <a:uFillTx/>
                <a:latin typeface="Calibri"/>
              </a:rPr>
              <a:t>Ценности</a:t>
            </a:r>
            <a:r>
              <a:rPr b="0" i="1" lang="ru-RU" sz="2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сюда относятся те суждения, идеи, которые осознаны учителем и в его сознании определяют предельные ценностные границы его деятельности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обода учащегося быть самим собо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ждый человек обладает своим «совершенством»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мочь каждому учащемуся его индивидуальные дарования сделать социально плодотворным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ндивидуальное развитие каждого учащеюся соответствует его способностям, интересам и возможностям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еловек учится только тому, что соответствует его способностям, интересам и что он считает полезным для себ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бы быть успешным в современном обществе, выпускник должен владеть соответствующим комплексом ключевых компетенци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общение учащегося к той культурной традиции, которая в максимальной степени может способствовать его развити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285480" y="214200"/>
            <a:ext cx="8643960" cy="642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Профессиональные качеств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доброжелательно и заинтересованно относиться к учащимс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быть готовым  принимать  конструктивную  критику от коллег и учащихся, вносить соответствующие коррективы в свою деятельност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иметь собственный взгляд на социальную ситуацию и окружающий мир и быть способным поделиться своим видением с учащимис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иметь развитую способность к критике и рефлекс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воздерживаться от роли кладезя мудрости и зн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понимать других людей, имеющих иные ценности, интересы и способ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быть открытым для любых мнений учащихся по обсуждаемому вопрос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спокойно реагировать на едкие замечания в свой адрес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иметь собственную позицию и свою манеру обучения, не быть безлики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уметь делиться с учащимися своими мыслями и чувствам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демонстрировать компетентное поведение - собственную ответственность за результат, любознательность, способность к кооперации и диалогу и т.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демонстрировать увлеченность своим предмет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 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использовать четкий, понятный, гибкий язык с образными выражения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8-27T02:44:22Z</dcterms:modified>
  <cp:revision>13</cp:revision>
  <dc:subject/>
  <dc:title>Слайд 1</dc:title>
</cp:coreProperties>
</file>